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10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5.gif" ContentType="image/gif"/>
  <Override PartName="/ppt/media/image1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DC5-2D92-4F7E-B3DB-64BEFBBD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74C-1505-45C0-84B4-BA2514E0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47A-8556-41DC-8CAE-7038746E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0C0-280E-44BE-885A-E9D83B19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D04D-DEA6-4814-9F39-6B64DF86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CB1E-73B9-46AB-83F2-C840DED5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A937-FF1F-4494-B463-55C03D66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A46B-E528-4FAF-801C-A155FB53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285B-ADDF-4BCE-B44F-6F3385F0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0629-5E0B-4B05-98B8-0A88DFF4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3DA7-FAE9-4B92-8A37-06F52B61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476-A39E-4562-ABA6-1A1D1AC3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5B77-12E1-4A4E-8EC0-D9D5993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A8CF-A1CC-4689-889A-6F069128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C8B6-A48E-4B63-9127-3D89B8B3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880C-84A9-4323-8404-F48487A5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A3FD-5449-4DDF-998E-C308681B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AA51-B133-4A81-9DAA-334C1C31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A395E-7DB1-477A-A579-A1B0BE43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E8D33-01B9-459A-A018-660579B5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987E-8CCB-476B-BA24-A32F99B7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BFA01-082E-4DE4-B652-A7397E4A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C0E-9C8A-4BAA-9FD3-5BE7A1D9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42AC-5220-4942-B484-DCAA0EAB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87BA6-668A-4FC5-A2EA-6A08D2A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774F9-ED02-4DF5-BC20-4CA595C2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C0D9-188D-4AB6-B4E7-FBFBBE95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BD36-6D77-4DF5-9DF4-ACF02252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1CE5-D644-449D-97C1-60400393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6E8E-652B-4F09-A9BE-26E8AF84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9BA-3A77-4CA9-AD49-B69E1ABB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37D-F88B-42EC-9F44-70671C20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093-302E-4447-BFC9-5F6282AA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A8C-6AF8-4113-A083-13A8EA1A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597-DD6D-4CAD-AD56-2BD46FA8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134-3B74-452F-A568-F78B5E8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C749-04C5-4E7D-BC41-F5D7BC099A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AC5A-0722-43A8-9C42-473C87703C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C7A1-E93E-4A7D-9378-124461847F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/../../&#30446;&#24405;.ppt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849400" y="1440000"/>
            <a:ext cx="58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7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走一步，再走一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pic_31669"/>
          <p:cNvPicPr/>
          <p:nvPr/>
        </p:nvPicPr>
        <p:blipFill>
          <a:blip r:embed="rId1">
            <a:lum contrast="18000"/>
          </a:blip>
          <a:srcRect l="0" t="0" r="-100" b="-68"/>
          <a:stretch/>
        </p:blipFill>
        <p:spPr>
          <a:xfrm>
            <a:off x="3867120" y="2733840"/>
            <a:ext cx="4492800" cy="27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9320" y="459360"/>
            <a:ext cx="7707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理清文章的思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taoshu"/>
          <p:cNvPicPr/>
          <p:nvPr/>
        </p:nvPicPr>
        <p:blipFill>
          <a:blip r:embed="rId1"/>
          <a:stretch/>
        </p:blipFill>
        <p:spPr>
          <a:xfrm>
            <a:off x="5605560" y="669960"/>
            <a:ext cx="3365280" cy="8413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406440" y="1467000"/>
            <a:ext cx="8404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一部分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：冒险。写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跟着小伙伴们爬上了半山腰的一条小山道，上不得，又不敢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二部分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：脱险。写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恐惧地伏在岩石上，后来在父亲的鼓励之下，一小步一小步地走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三部分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：感悟。写作者由小时候爬山的事感悟出的人生道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7360" y="1400040"/>
            <a:ext cx="773748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我们从中悟出怎样的生活哲理？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23600" y="1779480"/>
            <a:ext cx="772308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人生道路上，不管面对怎样的艰难险阻，只要把大困难分解为小困难，一个一个地认真解决小困难，终将战胜巨大的困难，赢得最后的胜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2004121511115859383"/>
          <p:cNvPicPr/>
          <p:nvPr/>
        </p:nvPicPr>
        <p:blipFill>
          <a:blip r:embed="rId1"/>
          <a:stretch/>
        </p:blipFill>
        <p:spPr>
          <a:xfrm>
            <a:off x="752400" y="4968720"/>
            <a:ext cx="74581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5"/>
          <p:cNvGrpSpPr/>
          <p:nvPr/>
        </p:nvGrpSpPr>
        <p:grpSpPr>
          <a:xfrm>
            <a:off x="7677000" y="1093680"/>
            <a:ext cx="509760" cy="582480"/>
            <a:chOff x="7677000" y="1093680"/>
            <a:chExt cx="509760" cy="582480"/>
          </a:xfrm>
        </p:grpSpPr>
        <p:sp>
          <p:nvSpPr>
            <p:cNvPr id="181" name="未知"/>
            <p:cNvSpPr/>
            <p:nvPr/>
          </p:nvSpPr>
          <p:spPr>
            <a:xfrm>
              <a:off x="7834320" y="1093680"/>
              <a:ext cx="199800" cy="29052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7677000" y="1216080"/>
              <a:ext cx="263520" cy="18252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7677000" y="1368360"/>
              <a:ext cx="263520" cy="18576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7831080" y="1384200"/>
              <a:ext cx="199800" cy="29196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7923240" y="1368360"/>
              <a:ext cx="263520" cy="18252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7923240" y="1214280"/>
              <a:ext cx="263520" cy="18432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7845120" y="1309680"/>
              <a:ext cx="176400" cy="150840"/>
            </a:xfrm>
            <a:prstGeom prst="pie">
              <a:avLst/>
            </a:prstGeom>
            <a:solidFill>
              <a:srgbClr val="bc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val 2"/>
          <p:cNvSpPr/>
          <p:nvPr/>
        </p:nvSpPr>
        <p:spPr>
          <a:xfrm>
            <a:off x="666720" y="2438280"/>
            <a:ext cx="1967040" cy="1290600"/>
          </a:xfrm>
          <a:prstGeom prst="ellipse">
            <a:avLst/>
          </a:prstGeom>
          <a:gradFill rotWithShape="0">
            <a:gsLst>
              <a:gs pos="0">
                <a:srgbClr val="333300"/>
              </a:gs>
              <a:gs pos="50000">
                <a:srgbClr val="ffffff"/>
              </a:gs>
              <a:gs pos="100000">
                <a:srgbClr val="33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  <a:ea typeface="华文新魏"/>
              </a:rPr>
              <a:t>遇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6566040" y="2438280"/>
            <a:ext cx="1874520" cy="12956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  <a:ea typeface="华文新魏"/>
              </a:rPr>
              <a:t>脱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47800" y="28954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df9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094200" y="2430360"/>
            <a:ext cx="305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着眼于那最初的一小步，走了这一步，再走下一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100920" y="292428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df9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676440" y="4367160"/>
            <a:ext cx="1439640" cy="1052640"/>
          </a:xfrm>
          <a:prstGeom prst="ellipse">
            <a:avLst/>
          </a:prstGeom>
          <a:gradFill rotWithShape="0">
            <a:gsLst>
              <a:gs pos="0">
                <a:srgbClr val="50fa78"/>
              </a:gs>
              <a:gs pos="50000">
                <a:srgbClr val="ffffff"/>
              </a:gs>
              <a:gs pos="100000">
                <a:srgbClr val="50fa78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彩云"/>
              </a:rPr>
              <a:t>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637000" y="439596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无论怎样的危险和困难，只要把它分解开来，分解为一小步一小步，困难就不大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2119320" y="47959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df9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2467080" y="1922400"/>
            <a:ext cx="4824360" cy="432000"/>
          </a:xfrm>
          <a:custGeom>
            <a:avLst/>
            <a:gdLst>
              <a:gd name="textAreaLeft" fmla="*/ 844200 w 4824360"/>
              <a:gd name="textAreaRight" fmla="*/ 3497760 w 4824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394578"/>
                <a:lnTo>
                  <a:pt x="21014" y="13262"/>
                </a:lnTo>
                <a:lnTo>
                  <a:pt x="17280" y="21600"/>
                </a:lnTo>
                <a:lnTo>
                  <a:pt x="12374" y="13262"/>
                </a:lnTo>
                <a:lnTo>
                  <a:pt x="14534" y="13262"/>
                </a:lnTo>
                <a:arcTo wR="7560" hR="21600" stAng="-3005422" swAng="-203714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469"/>
          <p:cNvPicPr/>
          <p:nvPr/>
        </p:nvPicPr>
        <p:blipFill>
          <a:blip r:embed="rId1"/>
          <a:stretch/>
        </p:blipFill>
        <p:spPr>
          <a:xfrm>
            <a:off x="7169040" y="811080"/>
            <a:ext cx="1273320" cy="782640"/>
          </a:xfrm>
          <a:prstGeom prst="rect">
            <a:avLst/>
          </a:prstGeom>
          <a:ln w="0">
            <a:noFill/>
          </a:ln>
        </p:spPr>
      </p:pic>
      <p:sp>
        <p:nvSpPr>
          <p:cNvPr id="198" name="WordArt 12"/>
          <p:cNvSpPr txBox="1"/>
          <p:nvPr/>
        </p:nvSpPr>
        <p:spPr>
          <a:xfrm>
            <a:off x="2057400" y="719280"/>
            <a:ext cx="49528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8000">
                    <a:alpha val="94000"/>
                  </a:srgbClr>
                </a:solidFill>
                <a:latin typeface="华文新魏"/>
              </a:rPr>
              <a:t>走一步，再走一步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8000">
                  <a:alpha val="94000"/>
                </a:srgbClr>
              </a:solidFill>
              <a:latin typeface="华文新魏"/>
              <a:ea typeface="华文新魏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541440" y="1236600"/>
            <a:ext cx="823104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.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分别找出详写、略写的句子；写攀爬悬崖过程中哪些详写？哪些略写？</a:t>
            </a:r>
            <a:r>
              <a:rPr b="0" lang="zh-CN" sz="2600" spc="-1" strike="noStrike">
                <a:solidFill>
                  <a:srgbClr val="ff3300"/>
                </a:solidFill>
                <a:latin typeface="宋体"/>
                <a:ea typeface="幼圆"/>
              </a:rPr>
              <a:t> </a:t>
            </a:r>
            <a:br>
              <a:rPr sz="2600"/>
            </a:b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2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.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找出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“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我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”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爬下悬崖的具体动作以及刻画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“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我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”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的心理活动的语句，揣摩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“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我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”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的心理变化。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3.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分析“我”爬下悬崖时心理经历过几个变化过程。</a:t>
            </a:r>
            <a:br>
              <a:rPr sz="2600"/>
            </a:b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4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.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文中写岩石架并不是很高，父亲完全可以扛梯子把孩子抱下来，可他为什么没有上去救孩子呢？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5.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从课文内容看，“走一步，再走一步”是什么意思？</a:t>
            </a:r>
            <a:br>
              <a:rPr sz="2600"/>
            </a:b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6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.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在人生道路上，面对困难，“走一步，再走一步”是什么意思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图片5"/>
          <p:cNvPicPr/>
          <p:nvPr/>
        </p:nvPicPr>
        <p:blipFill>
          <a:blip r:embed="rId1"/>
          <a:stretch/>
        </p:blipFill>
        <p:spPr>
          <a:xfrm>
            <a:off x="3713040" y="636480"/>
            <a:ext cx="203364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22440" y="929880"/>
            <a:ext cx="764856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分别找出详写、略写的句子；写攀爬悬崖过程中哪些详写？哪些略写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654120" y="352980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开头的说明和末尾的点题是略写；当中攀爬悬崖和爬下悬崖的回忆是详写。在写攀爬悬崖过程中，详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动作和心理活动，其他小朋友的活动则略写。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爬悬崖的过程详写，详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怎样在父亲的指导下爬下悬崖，父亲的指导则略写，详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行动与心理。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6000" y="763200"/>
            <a:ext cx="844380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找出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我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爬下悬崖的具体动作以及刻画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我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的心理活动的语句，揣摩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我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的心理变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23960" y="2332080"/>
          <a:ext cx="7696080" cy="3567240"/>
        </p:xfrm>
        <a:graphic>
          <a:graphicData uri="http://schemas.openxmlformats.org/drawingml/2006/table">
            <a:tbl>
              <a:tblPr/>
              <a:tblGrid>
                <a:gridCol w="971640"/>
                <a:gridCol w="3884400"/>
                <a:gridCol w="2840040"/>
              </a:tblGrid>
              <a:tr h="423000"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动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心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信心全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伸、探、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有了信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又照着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信心大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移动、爬下、啜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巨大的成就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1120" y="1562040"/>
            <a:ext cx="78134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析“我”爬下悬崖时心理经历过几个变化过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76240" y="3543840"/>
            <a:ext cx="12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继而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76240" y="2767680"/>
            <a:ext cx="12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初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876240" y="4321800"/>
            <a:ext cx="12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后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876240" y="50994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后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230880" y="2735640"/>
            <a:ext cx="20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毫无信心</a:t>
            </a:r>
            <a:r>
              <a:rPr b="0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009880" y="2767680"/>
            <a:ext cx="49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下不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会摔死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6253200" y="351036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信心萌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009880" y="354384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似乎是能办到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264360" y="428832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信心大增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2009880" y="43218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办得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009880" y="509004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激动啜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6259680" y="50259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巨大成就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5" descr="gbbar"/>
          <p:cNvPicPr/>
          <p:nvPr/>
        </p:nvPicPr>
        <p:blipFill>
          <a:blip r:embed="rId1"/>
          <a:stretch/>
        </p:blipFill>
        <p:spPr>
          <a:xfrm>
            <a:off x="579600" y="644400"/>
            <a:ext cx="7994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1314000"/>
            <a:ext cx="820116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文中写那座悬崖并不是很高，父亲完全可以扛梯子把孩子抱下来，可他为什么没有上去救孩子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04720" y="2891520"/>
            <a:ext cx="8082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这位父亲深知，如果自己上去救，孩子的能力就毫无长进，他让孩子自己下来，经受一次历练，增长勇气和经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752400" y="5284800"/>
            <a:ext cx="7701840" cy="877680"/>
            <a:chOff x="752400" y="5284800"/>
            <a:chExt cx="7701840" cy="877680"/>
          </a:xfrm>
        </p:grpSpPr>
        <p:sp>
          <p:nvSpPr>
            <p:cNvPr id="222" name="未知"/>
            <p:cNvSpPr/>
            <p:nvPr/>
          </p:nvSpPr>
          <p:spPr>
            <a:xfrm>
              <a:off x="752400" y="5434200"/>
              <a:ext cx="1541880" cy="41940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752400" y="5828400"/>
              <a:ext cx="1539360" cy="3088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5400360" y="5418720"/>
              <a:ext cx="3053880" cy="43488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5397840" y="5853960"/>
              <a:ext cx="305640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5397840" y="566928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54972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5601960" y="566928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39784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539784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7392240" y="566928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74916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759672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770148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7806240" y="5669280"/>
              <a:ext cx="68760" cy="20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911000" y="5680440"/>
              <a:ext cx="68760" cy="20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018640" y="5691600"/>
              <a:ext cx="6624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23400" y="5705280"/>
              <a:ext cx="66240" cy="23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8228160" y="5726520"/>
              <a:ext cx="6624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8333280" y="5750280"/>
              <a:ext cx="66240" cy="30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8437680" y="5802120"/>
              <a:ext cx="16560" cy="29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7356600" y="5718240"/>
              <a:ext cx="1097640" cy="14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7356600" y="5807520"/>
              <a:ext cx="1097640" cy="21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5690160" y="566928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578952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89464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0"/>
            <p:cNvSpPr/>
            <p:nvPr/>
          </p:nvSpPr>
          <p:spPr>
            <a:xfrm>
              <a:off x="569016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569016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982840" y="566928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607896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61866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5"/>
            <p:cNvSpPr/>
            <p:nvPr/>
          </p:nvSpPr>
          <p:spPr>
            <a:xfrm>
              <a:off x="598284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6"/>
            <p:cNvSpPr/>
            <p:nvPr/>
          </p:nvSpPr>
          <p:spPr>
            <a:xfrm>
              <a:off x="598284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6274800" y="566928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63720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64764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0"/>
            <p:cNvSpPr/>
            <p:nvPr/>
          </p:nvSpPr>
          <p:spPr>
            <a:xfrm>
              <a:off x="627480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1"/>
            <p:cNvSpPr/>
            <p:nvPr/>
          </p:nvSpPr>
          <p:spPr>
            <a:xfrm>
              <a:off x="627480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6564600" y="566928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666396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676908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5"/>
            <p:cNvSpPr/>
            <p:nvPr/>
          </p:nvSpPr>
          <p:spPr>
            <a:xfrm>
              <a:off x="6564600" y="5718240"/>
              <a:ext cx="298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6"/>
            <p:cNvSpPr/>
            <p:nvPr/>
          </p:nvSpPr>
          <p:spPr>
            <a:xfrm>
              <a:off x="6564600" y="5807520"/>
              <a:ext cx="298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685728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6956280" y="566928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70614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0"/>
            <p:cNvSpPr/>
            <p:nvPr/>
          </p:nvSpPr>
          <p:spPr>
            <a:xfrm>
              <a:off x="685728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685728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1496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724896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7353360" y="566928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5"/>
            <p:cNvSpPr/>
            <p:nvPr/>
          </p:nvSpPr>
          <p:spPr>
            <a:xfrm>
              <a:off x="714960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6"/>
            <p:cNvSpPr/>
            <p:nvPr/>
          </p:nvSpPr>
          <p:spPr>
            <a:xfrm>
              <a:off x="714960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7439040" y="5375520"/>
              <a:ext cx="838800" cy="58716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7202160" y="5284800"/>
              <a:ext cx="1174680" cy="42912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2294280" y="5423040"/>
              <a:ext cx="3103560" cy="43056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2363040" y="5407560"/>
              <a:ext cx="485280" cy="44604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2553840" y="5540400"/>
              <a:ext cx="1045080" cy="313200"/>
            </a:xfrm>
            <a:prstGeom prst="pie">
              <a:avLst/>
            </a:pr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2545200" y="5513760"/>
              <a:ext cx="1064520" cy="1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63"/>
            <p:cNvSpPr/>
            <p:nvPr/>
          </p:nvSpPr>
          <p:spPr>
            <a:xfrm>
              <a:off x="2584080" y="5711040"/>
              <a:ext cx="369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2760480" y="5513760"/>
              <a:ext cx="849240" cy="16632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65"/>
            <p:cNvSpPr/>
            <p:nvPr/>
          </p:nvSpPr>
          <p:spPr>
            <a:xfrm>
              <a:off x="2608920" y="5722200"/>
              <a:ext cx="313920" cy="131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66"/>
            <p:cNvSpPr/>
            <p:nvPr/>
          </p:nvSpPr>
          <p:spPr>
            <a:xfrm>
              <a:off x="2291760" y="5853960"/>
              <a:ext cx="310572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3540960" y="5321160"/>
              <a:ext cx="1199880" cy="28656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3552480" y="5409000"/>
              <a:ext cx="1481400" cy="444600"/>
            </a:xfrm>
            <a:prstGeom prst="pie">
              <a:avLst/>
            </a:pr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69"/>
            <p:cNvSpPr/>
            <p:nvPr/>
          </p:nvSpPr>
          <p:spPr>
            <a:xfrm>
              <a:off x="3577320" y="5650920"/>
              <a:ext cx="860040" cy="1940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4788000" y="5775480"/>
              <a:ext cx="480240" cy="7812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71"/>
            <p:cNvSpPr/>
            <p:nvPr/>
          </p:nvSpPr>
          <p:spPr>
            <a:xfrm>
              <a:off x="4788000" y="5646600"/>
              <a:ext cx="204480" cy="12852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72"/>
            <p:cNvSpPr/>
            <p:nvPr/>
          </p:nvSpPr>
          <p:spPr>
            <a:xfrm>
              <a:off x="3985200" y="5671800"/>
              <a:ext cx="369720" cy="1454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73"/>
            <p:cNvSpPr/>
            <p:nvPr/>
          </p:nvSpPr>
          <p:spPr>
            <a:xfrm>
              <a:off x="4829760" y="5660640"/>
              <a:ext cx="12384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3540960" y="5372640"/>
              <a:ext cx="1503720" cy="26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75"/>
            <p:cNvSpPr/>
            <p:nvPr/>
          </p:nvSpPr>
          <p:spPr>
            <a:xfrm>
              <a:off x="4090320" y="5680440"/>
              <a:ext cx="1598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6"/>
            <p:cNvSpPr/>
            <p:nvPr/>
          </p:nvSpPr>
          <p:spPr>
            <a:xfrm>
              <a:off x="4004640" y="5680440"/>
              <a:ext cx="66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7"/>
            <p:cNvSpPr/>
            <p:nvPr/>
          </p:nvSpPr>
          <p:spPr>
            <a:xfrm>
              <a:off x="4272480" y="5680440"/>
              <a:ext cx="630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8"/>
            <p:cNvSpPr/>
            <p:nvPr/>
          </p:nvSpPr>
          <p:spPr>
            <a:xfrm>
              <a:off x="4567680" y="5680440"/>
              <a:ext cx="1018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9"/>
            <p:cNvSpPr/>
            <p:nvPr/>
          </p:nvSpPr>
          <p:spPr>
            <a:xfrm>
              <a:off x="4501440" y="568044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0"/>
            <p:cNvSpPr/>
            <p:nvPr/>
          </p:nvSpPr>
          <p:spPr>
            <a:xfrm>
              <a:off x="4691520" y="568044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4652640" y="5506920"/>
              <a:ext cx="7416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4755240" y="5506920"/>
              <a:ext cx="7668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4697280" y="5491800"/>
              <a:ext cx="8820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4752360" y="5524920"/>
              <a:ext cx="479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5"/>
            <p:cNvSpPr/>
            <p:nvPr/>
          </p:nvSpPr>
          <p:spPr>
            <a:xfrm>
              <a:off x="5067000" y="5820120"/>
              <a:ext cx="1900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6"/>
            <p:cNvSpPr/>
            <p:nvPr/>
          </p:nvSpPr>
          <p:spPr>
            <a:xfrm>
              <a:off x="5003280" y="5782320"/>
              <a:ext cx="1908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5000760" y="5561280"/>
              <a:ext cx="220680" cy="8496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8"/>
            <p:cNvSpPr/>
            <p:nvPr/>
          </p:nvSpPr>
          <p:spPr>
            <a:xfrm>
              <a:off x="5171400" y="5646600"/>
              <a:ext cx="248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801680" y="5524920"/>
              <a:ext cx="306360" cy="9504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90"/>
            <p:cNvSpPr/>
            <p:nvPr/>
          </p:nvSpPr>
          <p:spPr>
            <a:xfrm>
              <a:off x="4992480" y="5646600"/>
              <a:ext cx="410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91"/>
            <p:cNvSpPr/>
            <p:nvPr/>
          </p:nvSpPr>
          <p:spPr>
            <a:xfrm>
              <a:off x="4788000" y="5646600"/>
              <a:ext cx="4176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1734480" y="5853960"/>
              <a:ext cx="1218960" cy="30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3276360" y="5712480"/>
              <a:ext cx="123840" cy="23760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3290400" y="5731920"/>
              <a:ext cx="71640" cy="684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3290400" y="5762880"/>
              <a:ext cx="74160" cy="540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3290400" y="5754600"/>
              <a:ext cx="74160" cy="396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3290400" y="5796360"/>
              <a:ext cx="79920" cy="684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3290400" y="5789520"/>
              <a:ext cx="79920" cy="396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901080" y="5378040"/>
              <a:ext cx="838800" cy="62064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760320" y="5292720"/>
              <a:ext cx="1125360" cy="41688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632600" y="5820120"/>
              <a:ext cx="219960" cy="12996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262880" y="5870520"/>
              <a:ext cx="129240" cy="6948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884160" y="1424160"/>
            <a:ext cx="766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从课文内容看，“走一步，再走一步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932040" y="2808360"/>
            <a:ext cx="7553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论怎样的危险和困难，只要把它分解开来，分解为一小步一小步，困难就不大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469"/>
          <p:cNvPicPr/>
          <p:nvPr/>
        </p:nvPicPr>
        <p:blipFill>
          <a:blip r:embed="rId1"/>
          <a:stretch/>
        </p:blipFill>
        <p:spPr>
          <a:xfrm>
            <a:off x="7128000" y="5338800"/>
            <a:ext cx="1272960" cy="782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3"/>
          <p:cNvPicPr/>
          <p:nvPr/>
        </p:nvPicPr>
        <p:blipFill>
          <a:blip r:embed="rId2"/>
          <a:stretch/>
        </p:blipFill>
        <p:spPr>
          <a:xfrm>
            <a:off x="603360" y="5473800"/>
            <a:ext cx="359064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665280" y="1020600"/>
            <a:ext cx="7805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人生道路上，面对困难，“走一步，再走一步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663480" y="2349360"/>
            <a:ext cx="7832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告诉我们，在人生道路上，无论面临怎样的困难和危险，只要把它分解开来，分解成一小步一小步，一步一步战胜小困难，最后就能战胜最大的困难。当然，关键在于走好每一步，要一步一步坚持不懈地走下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032611"/>
          <p:cNvPicPr/>
          <p:nvPr/>
        </p:nvPicPr>
        <p:blipFill>
          <a:blip r:embed="rId1"/>
          <a:stretch/>
        </p:blipFill>
        <p:spPr>
          <a:xfrm>
            <a:off x="958680" y="6016680"/>
            <a:ext cx="716292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pic_31669"/>
          <p:cNvPicPr/>
          <p:nvPr/>
        </p:nvPicPr>
        <p:blipFill>
          <a:blip r:embed="rId1">
            <a:lum contrast="18000"/>
          </a:blip>
          <a:srcRect l="0" t="0" r="-100" b="1421"/>
          <a:stretch/>
        </p:blipFill>
        <p:spPr>
          <a:xfrm>
            <a:off x="771480" y="844560"/>
            <a:ext cx="7580520" cy="544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6fe8bffa1d3d8b60242df258"/>
          <p:cNvPicPr/>
          <p:nvPr/>
        </p:nvPicPr>
        <p:blipFill>
          <a:blip r:embed="rId2"/>
          <a:srcRect l="0" t="0" r="0" b="1490"/>
          <a:stretch/>
        </p:blipFill>
        <p:spPr>
          <a:xfrm>
            <a:off x="771480" y="844560"/>
            <a:ext cx="7661160" cy="5452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103b7e00a55f00b8e950cd8b"/>
          <p:cNvPicPr/>
          <p:nvPr/>
        </p:nvPicPr>
        <p:blipFill>
          <a:blip r:embed="rId3"/>
          <a:srcRect l="0" t="0" r="0" b="2115"/>
          <a:stretch/>
        </p:blipFill>
        <p:spPr>
          <a:xfrm>
            <a:off x="771480" y="844560"/>
            <a:ext cx="7620120" cy="543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08565D1C6B7F275C907A283942D81828"/>
          <p:cNvPicPr/>
          <p:nvPr/>
        </p:nvPicPr>
        <p:blipFill>
          <a:blip r:embed="rId4"/>
          <a:stretch/>
        </p:blipFill>
        <p:spPr>
          <a:xfrm>
            <a:off x="771480" y="844560"/>
            <a:ext cx="7680240" cy="54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357120" y="160164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请你评论四个孩子的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57120" y="2050920"/>
            <a:ext cx="8431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爬上悬崖，陷入困难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杰利看来好像有点不放心，但还是和大家一起走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；后来是杰利去把父亲找来的，说明他还是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富于友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57120" y="4011480"/>
            <a:ext cx="8431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文中其他四个孩子，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陷入困境时则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丢在那儿不管，还无情地嘲笑，这样对待一起玩的伙伴则有些恶劣，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没有患难与共的爱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taoshu"/>
          <p:cNvPicPr/>
          <p:nvPr/>
        </p:nvPicPr>
        <p:blipFill>
          <a:blip r:embed="rId1"/>
          <a:stretch/>
        </p:blipFill>
        <p:spPr>
          <a:xfrm>
            <a:off x="5686560" y="658800"/>
            <a:ext cx="3365280" cy="8413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图片7"/>
          <p:cNvPicPr/>
          <p:nvPr/>
        </p:nvPicPr>
        <p:blipFill>
          <a:blip r:embed="rId2"/>
          <a:stretch/>
        </p:blipFill>
        <p:spPr>
          <a:xfrm>
            <a:off x="3519360" y="727200"/>
            <a:ext cx="2033640" cy="6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49120" y="1312560"/>
            <a:ext cx="8717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假如“我”的父亲急忙赶到悬崖下面，一面安慰“我”，一面急忙爬上悬崖，把“我”扶下来，这种做法和文中父亲的做法你更喜欢哪一种？为什么？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12840" y="3729600"/>
            <a:ext cx="8531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孩子的路终究要靠自己去走，总靠别人扶，不是长久之计。父亲指引儿子独立走下来，恰恰是让儿子经过这种历练增加独立克服困难的勇气和经验。在我们的生活中，家长、老师其实也给了我们很多这类的指导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04"/>
          <p:cNvPicPr/>
          <p:nvPr/>
        </p:nvPicPr>
        <p:blipFill>
          <a:blip r:embed="rId1"/>
          <a:stretch/>
        </p:blipFill>
        <p:spPr>
          <a:xfrm>
            <a:off x="692280" y="5856120"/>
            <a:ext cx="782784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647640" y="1623960"/>
            <a:ext cx="784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个人在旅途中，不可能一帆风顺，事事都顺你意，遇到困难，感受挫折，都是正常的。只要我们不失自信，牢记“不要想着距离有多远，你只要想着你是在走一小步，你能办得到的”，那么，什么样的艰难险阻都将被你踩在脚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469"/>
          <p:cNvPicPr/>
          <p:nvPr/>
        </p:nvPicPr>
        <p:blipFill>
          <a:blip r:embed="rId1"/>
          <a:stretch/>
        </p:blipFill>
        <p:spPr>
          <a:xfrm>
            <a:off x="7569360" y="776160"/>
            <a:ext cx="1272960" cy="7826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720720" y="5330880"/>
            <a:ext cx="7701840" cy="877320"/>
            <a:chOff x="720720" y="5330880"/>
            <a:chExt cx="7701840" cy="877320"/>
          </a:xfrm>
        </p:grpSpPr>
        <p:sp>
          <p:nvSpPr>
            <p:cNvPr id="338" name="未知"/>
            <p:cNvSpPr/>
            <p:nvPr/>
          </p:nvSpPr>
          <p:spPr>
            <a:xfrm>
              <a:off x="720720" y="5480280"/>
              <a:ext cx="1541880" cy="41904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720720" y="5874480"/>
              <a:ext cx="1539360" cy="3088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5368680" y="5464800"/>
              <a:ext cx="3053880" cy="43488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5366160" y="5899680"/>
              <a:ext cx="305640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5366160" y="571536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54655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5570280" y="571536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536616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536616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7360560" y="571536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74599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756504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766980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7774560" y="5715360"/>
              <a:ext cx="68760" cy="20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7879320" y="5726160"/>
              <a:ext cx="68760" cy="20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7986960" y="5737320"/>
              <a:ext cx="6624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8091720" y="5751360"/>
              <a:ext cx="66240" cy="23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8196480" y="5772240"/>
              <a:ext cx="66240" cy="25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8301600" y="5796000"/>
              <a:ext cx="66240" cy="30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8406000" y="5847840"/>
              <a:ext cx="16560" cy="29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7324920" y="5763960"/>
              <a:ext cx="1097640" cy="14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7324920" y="5853240"/>
              <a:ext cx="1097640" cy="21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5658480" y="571536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575784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586296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0"/>
            <p:cNvSpPr/>
            <p:nvPr/>
          </p:nvSpPr>
          <p:spPr>
            <a:xfrm>
              <a:off x="565848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565848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5951160" y="571536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604728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61549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595116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595116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243120" y="571536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63403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64447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624312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624312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6532920" y="571536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663228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673740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45"/>
            <p:cNvSpPr/>
            <p:nvPr/>
          </p:nvSpPr>
          <p:spPr>
            <a:xfrm>
              <a:off x="6532920" y="5763960"/>
              <a:ext cx="298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6"/>
            <p:cNvSpPr/>
            <p:nvPr/>
          </p:nvSpPr>
          <p:spPr>
            <a:xfrm>
              <a:off x="6532920" y="5853240"/>
              <a:ext cx="298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682560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6924600" y="571536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70297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50"/>
            <p:cNvSpPr/>
            <p:nvPr/>
          </p:nvSpPr>
          <p:spPr>
            <a:xfrm>
              <a:off x="682560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51"/>
            <p:cNvSpPr/>
            <p:nvPr/>
          </p:nvSpPr>
          <p:spPr>
            <a:xfrm>
              <a:off x="682560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71179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721728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7321680" y="571536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55"/>
            <p:cNvSpPr/>
            <p:nvPr/>
          </p:nvSpPr>
          <p:spPr>
            <a:xfrm>
              <a:off x="711792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56"/>
            <p:cNvSpPr/>
            <p:nvPr/>
          </p:nvSpPr>
          <p:spPr>
            <a:xfrm>
              <a:off x="711792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7407360" y="5421600"/>
              <a:ext cx="838800" cy="5868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7170480" y="5330880"/>
              <a:ext cx="1174680" cy="42912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2262600" y="5469120"/>
              <a:ext cx="3103560" cy="43020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2331360" y="5453640"/>
              <a:ext cx="485280" cy="44568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2522160" y="5586480"/>
              <a:ext cx="1045080" cy="312840"/>
            </a:xfrm>
            <a:prstGeom prst="pie">
              <a:avLst/>
            </a:pr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2513520" y="5559840"/>
              <a:ext cx="106452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63"/>
            <p:cNvSpPr/>
            <p:nvPr/>
          </p:nvSpPr>
          <p:spPr>
            <a:xfrm>
              <a:off x="2552400" y="5757120"/>
              <a:ext cx="369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2728800" y="5559840"/>
              <a:ext cx="849240" cy="16632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65"/>
            <p:cNvSpPr/>
            <p:nvPr/>
          </p:nvSpPr>
          <p:spPr>
            <a:xfrm>
              <a:off x="2577240" y="5768280"/>
              <a:ext cx="313920" cy="131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66"/>
            <p:cNvSpPr/>
            <p:nvPr/>
          </p:nvSpPr>
          <p:spPr>
            <a:xfrm>
              <a:off x="2260080" y="5899680"/>
              <a:ext cx="310572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3509280" y="5367240"/>
              <a:ext cx="1199880" cy="28620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3520800" y="5455080"/>
              <a:ext cx="1481400" cy="444600"/>
            </a:xfrm>
            <a:prstGeom prst="pie">
              <a:avLst/>
            </a:pr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3545640" y="5696640"/>
              <a:ext cx="860040" cy="1940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4756320" y="5821560"/>
              <a:ext cx="480240" cy="7812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4756320" y="5692680"/>
              <a:ext cx="204480" cy="12852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3953520" y="5717880"/>
              <a:ext cx="369720" cy="1454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4798080" y="5706720"/>
              <a:ext cx="12384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3509280" y="5418720"/>
              <a:ext cx="1503720" cy="26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4058640" y="5726160"/>
              <a:ext cx="1598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3972960" y="5726160"/>
              <a:ext cx="66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4240800" y="5726160"/>
              <a:ext cx="630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4536000" y="5726160"/>
              <a:ext cx="1018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4469760" y="572616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4659840" y="572616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4620960" y="5553000"/>
              <a:ext cx="7416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4723560" y="5553000"/>
              <a:ext cx="7668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4665600" y="5537520"/>
              <a:ext cx="8820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4720680" y="5571000"/>
              <a:ext cx="479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5035320" y="5866200"/>
              <a:ext cx="1900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4971600" y="5828400"/>
              <a:ext cx="1908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969080" y="5607360"/>
              <a:ext cx="220680" cy="8496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8"/>
            <p:cNvSpPr/>
            <p:nvPr/>
          </p:nvSpPr>
          <p:spPr>
            <a:xfrm>
              <a:off x="5139720" y="5692680"/>
              <a:ext cx="248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770000" y="5571000"/>
              <a:ext cx="306360" cy="9504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0"/>
            <p:cNvSpPr/>
            <p:nvPr/>
          </p:nvSpPr>
          <p:spPr>
            <a:xfrm>
              <a:off x="4960800" y="5692680"/>
              <a:ext cx="410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1"/>
            <p:cNvSpPr/>
            <p:nvPr/>
          </p:nvSpPr>
          <p:spPr>
            <a:xfrm>
              <a:off x="4756320" y="5692680"/>
              <a:ext cx="4176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1702800" y="5899680"/>
              <a:ext cx="1218960" cy="30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3244680" y="5758200"/>
              <a:ext cx="123840" cy="23760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3258720" y="5778000"/>
              <a:ext cx="71640" cy="684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3258720" y="5808600"/>
              <a:ext cx="74160" cy="540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3258720" y="5800320"/>
              <a:ext cx="74160" cy="396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3258720" y="5842440"/>
              <a:ext cx="79920" cy="684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3258720" y="5835240"/>
              <a:ext cx="79920" cy="396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869400" y="5424120"/>
              <a:ext cx="838800" cy="62064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28640" y="5338800"/>
              <a:ext cx="1125360" cy="41652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1600920" y="5866200"/>
              <a:ext cx="219960" cy="12996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1231200" y="5916600"/>
              <a:ext cx="129240" cy="6948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1066680" y="3573360"/>
            <a:ext cx="14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爬悬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3"/>
          <p:cNvSpPr/>
          <p:nvPr/>
        </p:nvSpPr>
        <p:spPr>
          <a:xfrm>
            <a:off x="2179800" y="1971720"/>
            <a:ext cx="263520" cy="3786120"/>
          </a:xfrm>
          <a:custGeom>
            <a:avLst/>
            <a:gdLst>
              <a:gd name="textAreaLeft" fmla="*/ 168480 w 263520"/>
              <a:gd name="textAreaRight" fmla="*/ 263880 w 263520"/>
              <a:gd name="textAreaTop" fmla="*/ 98640 h 3786120"/>
              <a:gd name="textAreaBottom" fmla="*/ 368748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2438280" y="181944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毫无信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2438280" y="367200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萌发信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2514600" y="5400720"/>
            <a:ext cx="17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信心大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3821040" y="2049480"/>
            <a:ext cx="685800" cy="76212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"/>
          <p:cNvSpPr/>
          <p:nvPr/>
        </p:nvSpPr>
        <p:spPr>
          <a:xfrm flipH="1">
            <a:off x="3851280" y="3165480"/>
            <a:ext cx="792000" cy="71928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4038480" y="273384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走 一 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0"/>
          <p:cNvSpPr/>
          <p:nvPr/>
        </p:nvSpPr>
        <p:spPr>
          <a:xfrm>
            <a:off x="3851280" y="3957480"/>
            <a:ext cx="720720" cy="68112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1"/>
          <p:cNvSpPr/>
          <p:nvPr/>
        </p:nvSpPr>
        <p:spPr>
          <a:xfrm flipH="1">
            <a:off x="3835080" y="5073480"/>
            <a:ext cx="716040" cy="66204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4114800" y="4638600"/>
            <a:ext cx="16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再走一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5638680" y="37242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启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3897360" y="181944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冒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5"/>
          <p:cNvSpPr/>
          <p:nvPr/>
        </p:nvSpPr>
        <p:spPr>
          <a:xfrm>
            <a:off x="5029200" y="3191040"/>
            <a:ext cx="685800" cy="76176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6"/>
          <p:cNvSpPr/>
          <p:nvPr/>
        </p:nvSpPr>
        <p:spPr>
          <a:xfrm flipV="1">
            <a:off x="4952880" y="4028760"/>
            <a:ext cx="762120" cy="68580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3962520" y="540072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脱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4524480" y="18255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恐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4500720" y="539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有成就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6372360" y="374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化整为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1" descr="052633"/>
          <p:cNvPicPr/>
          <p:nvPr/>
        </p:nvPicPr>
        <p:blipFill>
          <a:blip r:embed="rId1"/>
          <a:stretch/>
        </p:blipFill>
        <p:spPr>
          <a:xfrm>
            <a:off x="7308720" y="1566720"/>
            <a:ext cx="1216080" cy="13892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2" descr="图片8"/>
          <p:cNvPicPr/>
          <p:nvPr/>
        </p:nvPicPr>
        <p:blipFill>
          <a:blip r:embed="rId2"/>
          <a:stretch/>
        </p:blipFill>
        <p:spPr>
          <a:xfrm>
            <a:off x="3556080" y="814320"/>
            <a:ext cx="2033640" cy="6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8"/>
          <p:cNvSpPr/>
          <p:nvPr/>
        </p:nvSpPr>
        <p:spPr>
          <a:xfrm>
            <a:off x="981000" y="2482920"/>
            <a:ext cx="7386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最可怕的敌人，就是没有坚强的信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  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华文行楷"/>
              </a:rPr>
              <a:t>——</a:t>
            </a: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罗曼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华文行楷"/>
              </a:rPr>
              <a:t>·</a:t>
            </a: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罗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2960" y="5850000"/>
            <a:ext cx="135864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93560" y="2673000"/>
            <a:ext cx="8460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概括文中的主要事件，把握记叙文的六要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感受文中的心理描写和语言描写，体会“我”的心理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理解“走一步，再走一步”的含义，从而获得人生启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20081117225726819"/>
          <p:cNvPicPr/>
          <p:nvPr/>
        </p:nvPicPr>
        <p:blipFill>
          <a:blip r:embed="rId1"/>
          <a:stretch/>
        </p:blipFill>
        <p:spPr>
          <a:xfrm>
            <a:off x="720720" y="5821200"/>
            <a:ext cx="7620120" cy="358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图片5"/>
          <p:cNvPicPr/>
          <p:nvPr/>
        </p:nvPicPr>
        <p:blipFill>
          <a:blip r:embed="rId2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  <p:pic>
        <p:nvPicPr>
          <p:cNvPr id="132" name="矩形 9" descr=""/>
          <p:cNvPicPr/>
          <p:nvPr/>
        </p:nvPicPr>
        <p:blipFill>
          <a:blip r:embed="rId3"/>
          <a:srcRect l="9627" t="0" r="7822" b="25953"/>
          <a:stretch/>
        </p:blipFill>
        <p:spPr>
          <a:xfrm>
            <a:off x="2995560" y="960480"/>
            <a:ext cx="2776680" cy="80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65280" y="3431520"/>
            <a:ext cx="78105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900cc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莫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亨特，美国作家。早年曾在空军服役，做过空军飞行员。在二战时期，他曾驾机执行过对德国的侦察任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莫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亨特是一位擅长写励志类文章的作家，他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走一步，再走一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被美国作家芭芭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琳达编撰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假如我们原谅上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收录。此外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心灵鸡汤 充满阳光的成长历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本收录激励心志的成长故事的书中也收录了他的相关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469"/>
          <p:cNvPicPr/>
          <p:nvPr/>
        </p:nvPicPr>
        <p:blipFill>
          <a:blip r:embed="rId1"/>
          <a:stretch/>
        </p:blipFill>
        <p:spPr>
          <a:xfrm>
            <a:off x="7224840" y="917640"/>
            <a:ext cx="1272960" cy="78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rcRect l="9038" t="2648" r="8006" b="20657"/>
          <a:stretch/>
        </p:blipFill>
        <p:spPr>
          <a:xfrm>
            <a:off x="3173400" y="507960"/>
            <a:ext cx="2692440" cy="808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图片1"/>
          <p:cNvPicPr/>
          <p:nvPr/>
        </p:nvPicPr>
        <p:blipFill>
          <a:blip r:embed="rId3"/>
          <a:stretch/>
        </p:blipFill>
        <p:spPr>
          <a:xfrm>
            <a:off x="3625920" y="1503360"/>
            <a:ext cx="203652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028880" y="2001960"/>
            <a:ext cx="788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训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诫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）  陡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峭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 ）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嶙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泣（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纳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 ）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回（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寒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颤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）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次（      ）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凸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出（     ）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眼（     ）  头晕目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眩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）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65040" y="3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94040" y="224640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067520" y="28526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y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973160" y="2832120"/>
            <a:ext cx="15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hu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251240" y="2840040"/>
            <a:ext cx="18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à h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386240" y="2235240"/>
            <a:ext cx="19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qi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6811920" y="222732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lín x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995480" y="350028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4533840" y="351144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l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021440" y="346860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t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1986120" y="4140360"/>
            <a:ext cx="20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u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4919760" y="414036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20047271121061117"/>
          <p:cNvPicPr/>
          <p:nvPr/>
        </p:nvPicPr>
        <p:blipFill>
          <a:blip r:embed="rId1"/>
          <a:stretch/>
        </p:blipFill>
        <p:spPr>
          <a:xfrm>
            <a:off x="752400" y="5591160"/>
            <a:ext cx="7467840" cy="60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" descr="图片3"/>
          <p:cNvPicPr/>
          <p:nvPr/>
        </p:nvPicPr>
        <p:blipFill>
          <a:blip r:embed="rId2"/>
          <a:stretch/>
        </p:blipFill>
        <p:spPr>
          <a:xfrm>
            <a:off x="3649680" y="1143000"/>
            <a:ext cx="2033640" cy="6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03b7e00a55f00b8e950cd8b"/>
          <p:cNvPicPr/>
          <p:nvPr/>
        </p:nvPicPr>
        <p:blipFill>
          <a:blip r:embed="rId1"/>
          <a:srcRect l="0" t="0" r="302" b="1834"/>
          <a:stretch/>
        </p:blipFill>
        <p:spPr>
          <a:xfrm>
            <a:off x="639720" y="716040"/>
            <a:ext cx="7885080" cy="509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点击画面播放"/>
          <p:cNvPicPr/>
          <p:nvPr/>
        </p:nvPicPr>
        <p:blipFill>
          <a:blip r:embed="rId2"/>
          <a:stretch/>
        </p:blipFill>
        <p:spPr>
          <a:xfrm>
            <a:off x="2917800" y="5978520"/>
            <a:ext cx="354024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6520" y="2080800"/>
            <a:ext cx="6461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这篇文章讲了一个什么故事？</a:t>
            </a:r>
            <a:r>
              <a:rPr b="0" lang="zh-CN" sz="28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406520" y="3002760"/>
            <a:ext cx="61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本文的记叙六要素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406520" y="3713040"/>
            <a:ext cx="5386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幼圆"/>
              </a:rPr>
              <a:t>3.</a:t>
            </a:r>
            <a:r>
              <a:rPr b="0" lang="zh-CN" sz="2800" spc="-1" strike="noStrike">
                <a:solidFill>
                  <a:srgbClr val="0000ff"/>
                </a:solidFill>
                <a:latin typeface="Tempus Sans ITC"/>
                <a:ea typeface="幼圆"/>
              </a:rPr>
              <a:t>理清文章的思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406520" y="4575240"/>
            <a:ext cx="6450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幼圆"/>
              </a:rPr>
              <a:t>4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幼圆"/>
              </a:rPr>
              <a:t>我们从中悟出怎样的生活哲理？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6_1105584051"/>
          <p:cNvPicPr/>
          <p:nvPr/>
        </p:nvPicPr>
        <p:blipFill>
          <a:blip r:embed="rId1"/>
          <a:srcRect l="81964" t="0" r="0" b="818"/>
          <a:stretch/>
        </p:blipFill>
        <p:spPr>
          <a:xfrm>
            <a:off x="7758000" y="625320"/>
            <a:ext cx="790560" cy="2895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图片4"/>
          <p:cNvPicPr/>
          <p:nvPr/>
        </p:nvPicPr>
        <p:blipFill>
          <a:blip r:embed="rId2"/>
          <a:stretch/>
        </p:blipFill>
        <p:spPr>
          <a:xfrm>
            <a:off x="3532320" y="1154160"/>
            <a:ext cx="203328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3680" y="198900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这篇文章讲了一个什么故事？</a:t>
            </a:r>
            <a:r>
              <a:rPr b="0" lang="zh-CN" sz="28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2517480"/>
            <a:ext cx="823572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7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前，费城的一个七月，因为天气闷热，玩腻了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伙伴爬悬崖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困在悬崖中，最后在父亲的指引下，顺利走下悬崖的故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gbbar"/>
          <p:cNvPicPr/>
          <p:nvPr/>
        </p:nvPicPr>
        <p:blipFill>
          <a:blip r:embed="rId1"/>
          <a:stretch/>
        </p:blipFill>
        <p:spPr>
          <a:xfrm>
            <a:off x="579600" y="666720"/>
            <a:ext cx="7994520" cy="652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4"/>
          <p:cNvPicPr/>
          <p:nvPr/>
        </p:nvPicPr>
        <p:blipFill>
          <a:blip r:embed="rId2"/>
          <a:stretch/>
        </p:blipFill>
        <p:spPr>
          <a:xfrm>
            <a:off x="647640" y="5824440"/>
            <a:ext cx="782820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609480" y="2197080"/>
            <a:ext cx="1371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地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人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起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经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结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603440" y="2197080"/>
            <a:ext cx="4724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七月里一个闷热的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603440" y="2833560"/>
            <a:ext cx="1295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费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03440" y="3483000"/>
            <a:ext cx="4724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男孩，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3440" y="4768920"/>
            <a:ext cx="2249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悬崖遇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603440" y="413244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气闷热 玩弹子游戏玩厌了  找新花样来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603440" y="5418000"/>
            <a:ext cx="5232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走一步，再走一步    脱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469"/>
          <p:cNvPicPr/>
          <p:nvPr/>
        </p:nvPicPr>
        <p:blipFill>
          <a:blip r:embed="rId1"/>
          <a:stretch/>
        </p:blipFill>
        <p:spPr>
          <a:xfrm>
            <a:off x="6797520" y="5132520"/>
            <a:ext cx="1273320" cy="782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630360" y="1586880"/>
            <a:ext cx="61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本文的记叙六要素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gbbar"/>
          <p:cNvPicPr/>
          <p:nvPr/>
        </p:nvPicPr>
        <p:blipFill>
          <a:blip r:embed="rId2"/>
          <a:stretch/>
        </p:blipFill>
        <p:spPr>
          <a:xfrm>
            <a:off x="579600" y="612720"/>
            <a:ext cx="7994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02:43:23Z</dcterms:created>
  <dc:creator>Administrator</dc:creator>
  <dc:description/>
  <cp:keywords/>
  <dc:language>en-US</dc:language>
  <cp:lastModifiedBy>Administrator</cp:lastModifiedBy>
  <cp:lastPrinted>1899-12-30T00:00:00Z</cp:lastPrinted>
  <dcterms:modified xsi:type="dcterms:W3CDTF">2014-12-25T07:17:45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